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516-5492-45CA-A24A-A3150537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E5AA-C15E-46D9-95EB-33398960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039-9679-4CF1-A12C-51D9116E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2A1-1F20-4637-A8EC-65C11EA6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523D-EC79-40B4-999D-BBAA6420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6FD6-FF1C-47B5-BD54-8F9D0A77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5EED-C92A-46A2-AF3E-917B7F4E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17EC-81B6-4FB5-8D72-E0B4BA01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E3D2-12F0-430A-B6D6-BA109452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88C9-3674-4665-BD75-07C532CF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DF1D-BA49-4CF9-BB12-9DADD7AB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6D5-B7D3-4400-B993-B68A14A8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7F83-D044-490E-9D12-A670AFC6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58DA-1683-460C-BA54-069C1537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D7B6-2333-43CB-85BB-9A898E93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E780-FBBA-48D6-987A-020969B6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FF8E-3330-4053-98A1-AFF79DE7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1788-7DF1-4A4B-BC77-FE2DEF15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C9B-53B8-43C9-8B84-B8B8590C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177-6ACF-48C8-9A55-4A681A57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BA6-309D-4EA0-B6DF-6F39877A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DC36-A244-4C78-B492-4EEB32A6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AAA-4964-475D-8DFC-0871537A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30E-2CBA-46DF-82A4-1315DFC0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18DD-8660-494C-A893-D8FDD0A39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DA83-0378-496D-B019-DF208A9AA8D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6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mentum and Colli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verage Force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mpulse imparted by a force during the time interval Δt is equal to the area under the force-time graph from the beginning to the end of the time interv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, the impulse is equal to the average force multiplied by the time interval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4419720" y="5562720"/>
          <a:ext cx="1868400" cy="59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5562720"/>
                    <a:ext cx="186840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mpulse Applied to Auto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st important factor is the collision time or the time it takes the person to come to a r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will reduce the chance of dying in a car cras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ys to increase the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at be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r ba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ir Bag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ir bag increases the time of the coll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ill also absorb some of the energy from the bo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ill spread out the area of cont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reases the pres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s prevent penetration wou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4648320" y="2438280"/>
          <a:ext cx="44956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438280"/>
                    <a:ext cx="44956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on of Moment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mentum in an isolated system in which a collision occurs is con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llision may be the result of physical contact between two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ct” may also arise from the electrostatic interactions of the electrons in the surface atoms of the bod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isolated system will have not external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on of Momentum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rinciple of conservation of momentum states when no external forces act on a system consisting of two objects that collide with each other, the total momentum of the system remains constant in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fically, the total momentum before the collision will equal the total momentum after the coll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on of Momentum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hematicall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mentum is conserved for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ystem includes all the objects interacting with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s only internal forces are acting during the coll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generalized to any number of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1758960" y="2424240"/>
          <a:ext cx="5170320" cy="54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8960" y="2424240"/>
                    <a:ext cx="517032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About A Syste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ember conservation of momentum applies to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must define the isolated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ypes of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mentum is conserved in any coll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elastic colli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netic energy is not conser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of the kinetic energy is converted into other types of energy such as heat, sound, work to permanently deform an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ectly inelastic collisions occur when the objects stick toge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all of the KE is necessarily l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Types of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astic colli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momentum and kinetic energy are con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tual colli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collisions fall between elastic and perfectly inelastic colli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Perfectly Inelastic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wo objects stick together after the collision, they have undergone a perfectly inelastic coll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of momentum beco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752480" y="6019920"/>
                <a:ext cx="49532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38862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WOW! 3 free days to study fizzics!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pter 5, page 155, # 6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General Notes About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mentum is a vector quant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 is impor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sure to have the correct sig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Elastic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momentum and kinetic energy are con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ypically have two unknow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ve the equations simultaneous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905120" y="3429000"/>
                <a:ext cx="617220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 Collision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simpler equation can be used in place of the KE eq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981080" y="3200400"/>
                <a:ext cx="43434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mmary of Types of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n elastic collision, both momentum and kinetic energy are con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n inelastic collision, momentum is conserved but kinetic energy is n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erfectl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elastic collision, momentum is conserved, kinetic energy is not, and the two objects stick together after the collision, so their final velocities are the s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for One -Dimensional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ordinates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up a coordinate axis and define the velocities with respect to this 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convenient to make your axis coincide with one of the initial veloc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agram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your sketch, draw all the velocity vectors and label the velocities and the m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for One -Dimensional Collision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servation of Momentum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Write a general expression for the total momentum of the system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colli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quate the two total momentum expre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l in the known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for One -Dimensional Collisions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servation of Energy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the collision is elastic, write a second equation for conservation of KE, or the alternative eq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only applies to perfectly elastic colli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lve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resulting equations simultaneousl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ketches for Collision Problem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aw “before” and “after” sket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 each objec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 the direction of velo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track of subscri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1"/>
          <a:stretch/>
        </p:blipFill>
        <p:spPr>
          <a:xfrm>
            <a:off x="5014800" y="1981080"/>
            <a:ext cx="3816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ketches for Perfectly Inelastic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s stick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all the velocity 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“after” collision combines the ma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5568840" y="1854360"/>
            <a:ext cx="31179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lancing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general collision of two objects in three-dimensional space, the conservation of momentum principle implies that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otal momentum of the system in each direction is con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ubscripts for identifying the object, initial and final velocities, and compon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981080" y="3962520"/>
                <a:ext cx="50356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y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y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y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’m sooooo sorry!!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04" name="Picture 3" descr="05P63"/>
          <p:cNvPicPr/>
          <p:nvPr/>
        </p:nvPicPr>
        <p:blipFill>
          <a:blip r:embed="rId1"/>
          <a:stretch/>
        </p:blipFill>
        <p:spPr>
          <a:xfrm>
            <a:off x="1758960" y="2017800"/>
            <a:ext cx="2733840" cy="360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182240" y="5758920"/>
            <a:ext cx="3814920" cy="3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 floor as 0 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 = m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 = ½ m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- tot Ei = tot E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  <a:ea typeface="Arial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PE =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  <a:ea typeface="Arial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K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3 – Kinemat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4 – W =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  <a:ea typeface="Arial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Eto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lancing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3886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“after” velocities have x and y compon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mentum is conserved in the x direction and in the y dir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y conservation of momentum separately to each dir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46479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for Two-Dimensional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ordinates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up coordinate axes and define your velocities with respect to these ax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convenient to choose the x- or y- axis to coincide with one of the initial veloc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raw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your sketch, draw and label all the velocities and m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for Two-Dimensional Collision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servation of Momentum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expressions for the x and y components of the momentum of each object before and after the coll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expressions for the total momentum before and after the collision in the x-direction and in the y-dir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for Two-Dimensional Collisions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servation of Energy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the collision is elastic, write an expression for the total energy before and after the colli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quate the two expre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l in the known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ve the quadratic equ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’t be simplif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for Two-Dimensional Collisions, 4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or the unknown quant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ve the equations simultaneous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will be two equations for inelastic colli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will be three equations for elastic colli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ocket Propul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peration of a rocket depends on the law of conservation of momentum as applied to a system, where the system is the rocket plus its ejected fu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different than propulsion on the earth where two objects exert forces on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ad on c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in on tr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ocket Propulsion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ocket is accelerated as a result of the thrust of the exhaust ga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represents the inverse of an inelastic colli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mentum is con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netic Energy is increased (at the expense of the stored energy of the rocket fue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ocket Propulsion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itial mass of the rocket is M + Δ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 is the mass of the roc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 is the mass of the fu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itial velocity of the rocket i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Object 6"/>
          <p:cNvGraphicFramePr/>
          <p:nvPr/>
        </p:nvGraphicFramePr>
        <p:xfrm>
          <a:off x="7696080" y="5562720"/>
          <a:ext cx="3924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562720"/>
                    <a:ext cx="392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3200400" y="1828800"/>
            <a:ext cx="3276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ocket Propul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ocket’s mass is 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ss of the fuel, Δm, has been ej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ocket’s speed has increased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0" name="Object 6"/>
          <p:cNvGraphicFramePr/>
          <p:nvPr/>
        </p:nvGraphicFramePr>
        <p:xfrm>
          <a:off x="1676520" y="6095880"/>
          <a:ext cx="137160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5880"/>
                    <a:ext cx="13716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Picture 8" descr=""/>
          <p:cNvPicPr/>
          <p:nvPr/>
        </p:nvPicPr>
        <p:blipFill>
          <a:blip r:embed="rId3"/>
          <a:stretch/>
        </p:blipFill>
        <p:spPr>
          <a:xfrm>
            <a:off x="1841400" y="2030400"/>
            <a:ext cx="53974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ocket Propulsion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asic equation for rocket propulsion i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initial mass of the rocket plus fu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final mass of the rocket plus any remaining fu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peed of the rocket is proportional to the exhaust sp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2514600" y="2666880"/>
                <a:ext cx="30481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ment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inear momentum   of an object of mas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moving with a velocity   is defined as the product of the mass and the veloc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 Units are kg m / 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ctor quantity, the direction of the momentum is the same as the velocity’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Object 5"/>
          <p:cNvGraphicFramePr/>
          <p:nvPr/>
        </p:nvGraphicFramePr>
        <p:xfrm>
          <a:off x="6172200" y="1981080"/>
          <a:ext cx="3967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981080"/>
                    <a:ext cx="396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6"/>
          <p:cNvGraphicFramePr/>
          <p:nvPr/>
        </p:nvGraphicFramePr>
        <p:xfrm>
          <a:off x="3235320" y="2895480"/>
          <a:ext cx="3920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35320" y="2895480"/>
                    <a:ext cx="392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7"/>
          <p:cNvGraphicFramePr/>
          <p:nvPr/>
        </p:nvGraphicFramePr>
        <p:xfrm>
          <a:off x="1981080" y="3886200"/>
          <a:ext cx="158760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886200"/>
                    <a:ext cx="158760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rust of a Rocke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hrust is the force exerted on the rocket by the ejected exhaust g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stantaneous thrust is given 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hrust increases as the exhaust speed increases and as the burn rate (ΔM/Δt) increas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2666880" y="3505320"/>
                <a:ext cx="297180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f>
                          <m:num>
                            <m:r>
                              <m:t xml:space="preserve">ΔM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,2,4,9,11,14,18,20,24,26,29,30, 37,43,48,50,5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mentum componen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es to two-dimensional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1600200" y="2057400"/>
                <a:ext cx="38098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mpuls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order to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ha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momentum of an object, a force must be appl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ime rate of change of momentum of an object is equal to the net force acting on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s an alternative statement of Newton’s second la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2057400" y="4267080"/>
          <a:ext cx="340848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267080"/>
                    <a:ext cx="34084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mpulse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a single, constant force acts on the object, there is an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mpul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delivered to the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defined a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ctor quantity, the direction is the same as the direction of the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1981080" y="3505320"/>
          <a:ext cx="137160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505320"/>
                    <a:ext cx="13716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5"/>
          <p:cNvGraphicFramePr/>
          <p:nvPr/>
        </p:nvGraphicFramePr>
        <p:xfrm>
          <a:off x="1981080" y="4067280"/>
          <a:ext cx="29844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067280"/>
                    <a:ext cx="2984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mpulse-Momentum Theore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heorem states that the impulse acting on the object is equal to the change in momentum of the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force is not constant, use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verage for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ppl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981080" y="4038480"/>
          <a:ext cx="3886200" cy="5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038480"/>
                    <a:ext cx="388620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verage Force in Impuls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verage force can be thought of as the constant force that would give the same impulse to the object in the time interval as the actual time-varying force gives in the interv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1"/>
          <a:stretch/>
        </p:blipFill>
        <p:spPr>
          <a:xfrm>
            <a:off x="5297400" y="2362320"/>
            <a:ext cx="37702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1T22:13:54Z</dcterms:created>
  <dc:creator>Marilyn Akins</dc:creator>
  <dc:description/>
  <dc:language>en-US</dc:language>
  <cp:lastModifiedBy>gandella</cp:lastModifiedBy>
  <dcterms:modified xsi:type="dcterms:W3CDTF">2009-09-21T16:24:27Z</dcterms:modified>
  <cp:revision>26</cp:revision>
  <dc:subject/>
  <dc:title>Chapter 6</dc:title>
</cp:coreProperties>
</file>